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844-4707-4E26-9ABB-E6D318D9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F47-CC8D-4D51-8D43-13C30A4F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0DA-E62D-4BA3-A28A-A4AD2EDB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165-89B5-42B3-A247-DBF4D46E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91E-2C50-47E4-B4B5-FD12BC01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92E-7E86-4C01-81DE-148EC80F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6B6-50B9-4F37-BDDF-F1A067B4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AA4-F856-4BA0-900D-7413C703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D43-C800-4DFA-907C-B0FBDEE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5F2-D5BB-459B-997D-0C3579B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66D-E829-485A-8D03-3F7F045B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5DE-F5B2-481D-8EF9-FE8ADF6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1BCC-4E79-49DD-8780-C081CB992F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小班语言：《鼠宝宝找朋友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活动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能理解故事情节，巩固对鸭子、青蛙、小猫等动物走路特征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愿意大胆回答问题，感受有朋友的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05520" y="6324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3:47:42Z</dcterms:created>
  <dc:creator>裴晓建</dc:creator>
  <dc:description/>
  <dc:language>en-US</dc:language>
  <cp:lastModifiedBy>微软用户</cp:lastModifiedBy>
  <dcterms:modified xsi:type="dcterms:W3CDTF">2011-04-27T13:33:2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